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3CEC-A758-425C-B6E8-698FFDAA90E8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2823-E81A-4AD0-A534-4C2E87D888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3219-BB0D-46E3-9E55-82D1D0B760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A5B2-617F-4A43-AB36-75B87086C87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BD31-A616-45DA-AC15-B997630FD1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8D2E-2323-49C5-9864-57BA8161A12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BF14-21A9-4670-85E8-A5FDDD0F80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B278-661C-439E-AA75-53265A99541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1BCA-60C0-44D8-B881-F64F60293C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D0C2-DE6C-46EC-8999-D7D3D5EC334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57FE-A16E-4719-B4B2-946C67179F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0394-DE7F-425D-9B82-75FBBB2F6A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2242-B8B4-4F13-97F1-0523B81CFF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071D-7743-4822-A913-91AF3DF8CF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12FE-DA03-4F33-8F00-2891533DF00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927B-413F-4F14-954F-43460F6411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0C9E-097B-4D8B-8413-C4C96F188A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DE6B-85E0-4478-B388-9ECB064474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4940-041B-494F-B0F6-564A686D07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2FB1-C45D-48AE-A9A6-C2EBCE253AE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93CE-66E9-49FF-9487-B24CD13D674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060D-FE35-4B27-BC8B-EB4BDDBEA2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CA24-C459-48E7-AD02-80D45A4537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C0F1-34D8-46B6-87C0-FB91FF99E0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B09D-4398-4CC3-8D3E-FCC16A279EE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421A-E5D5-4EE3-9C67-964E45EEF4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4F31-B87F-4B5B-96F3-34749DAAF0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ADBC-E761-45FA-B08C-0BE39249F9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E6F3-7DC8-46CE-876F-0CDC28C534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7A3D-D906-4D2B-AEC3-6B7FB521EC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6A51-2792-4A1E-A8E4-E576A60C7B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2E7D-01AE-487D-AA0C-D21B751676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B9B3-97D2-4C04-9B9C-F63F840D97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9E4A-7CBF-4B7B-AEE0-635619143B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987A-BA5A-463F-A361-07DB524774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50DC-47AF-4BEC-B0D7-FE5D87292E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8538-2D92-486D-B451-6137924F2B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BAAA-A389-4A10-BDC8-7EFF1BA0871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EB2A-5C7E-4707-A370-F801949F49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DE52-1E37-41D5-A94C-F28F953777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67FE-1486-4D5C-BF45-B79DD8705B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EC3A-696F-45EC-A100-E19655BD38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92AC-F0AB-463F-8F09-38E266B3E2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0204-1E73-444B-B4C2-610F22E980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77D3-D8B3-4ECF-B6DC-1AA6CE3406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EECB-1A41-41ED-A457-42CB443B30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AB74-FC03-42FD-B570-EA014C2B2F1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4E7D-1220-464A-BE62-C93CF9177C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D00B-1272-4082-861B-37F096DA31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BC71-C2D5-4DF7-9FFB-A9973EB8D8D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4C82-7419-45B6-B7F6-184AE655A4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7B70-7951-441D-B570-532B97A1CA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9ED3-CAAC-480F-8F4E-6B92235416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994-B142-46AC-9AF1-1A92ED23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EAE-B893-4964-8303-EE9CC2E0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B23-925D-4218-9E85-49B2ADC5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E58-4CE0-49B9-B7B0-DA3BF263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FE4-6753-4BB6-8C8B-C5BD6051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8BD-75BF-4AEF-B7AC-8F9A3692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CD0-53DE-4509-A3A7-ADAB7F37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721-F314-4E6A-A6B7-900F9451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B2B-311F-4801-8A81-6C20DA39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0B8-64F4-4A64-AAF9-780EAD7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6DD-3337-4A8F-AFA1-BB90CA5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F79-0A4E-4654-AA10-D64E6C1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694D-1DFB-4DE2-B068-B9DAD21259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0453-57D9-4A92-9A00-81B642DC58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6EAC-682C-41A6-AA5C-86DE75C36A0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93D4-2C82-4907-9E90-908EB0E781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A14-6B1F-429F-B6EA-9E0D0FF12A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A4B6-C1B0-47A6-AFC9-F83FD0DAA1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5F67-8648-4542-8717-26F0A28BD9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222B-20E4-488F-AA8A-E73EDEDFAF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BB8F-7F91-4A83-A5CA-4EC9A5868D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18E2-CC8B-4D0E-9D8B-DFB8C3FB6A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4D78-C43A-4DC1-806E-62677CA76E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EDA3-F582-4639-8226-F9F1D2F3D0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91D-67FB-4E55-AAF5-303C9D8A53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6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A38F-2E78-480E-958C-EC065C28C3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2DA8-2B4F-4F1F-81FE-A595383853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A29F-11EC-4D34-88DB-1290EFA30C4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89CC-19D7-4CAE-BADB-191142B63CB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5F0C-37C4-4827-8DFE-292E84128A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201C-6BCB-4792-84D6-E5002665A2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FDDF-8D2C-48E9-9B6B-2FF3D7C2CA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71C0-8269-4B99-B111-D3C20F27AE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93C5-C431-407A-888B-820377DC64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0E02-7637-466D-9FA6-DED2699F8C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742E-135C-4CB9-92D5-2E7E2DB22A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9BCE-E9AC-49EC-B6B9-19543F4F0A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5DF8-BB73-46CC-9DEB-E2363EE0F6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5132-4F14-4983-A844-4D87C78F91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6BA7-D058-476D-9C8C-785DD555E3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4D6-66CC-44AA-AFE3-4F80A39EE8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0BD5-ED63-4CFB-A17C-5D4E620CC2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408C-D0A1-4587-AA6B-2FEB06F463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B29-0D74-4D3A-BF3F-B28EC45D6B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2CA5-2EE6-4C34-8EAF-477FD39E03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6D8B-D31C-4F6E-9601-F98664BCBC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1135-3DE9-41B5-A56D-FB34CC570B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839E-2A4A-4CC8-92BC-1B1C254FDB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7102-6159-442C-B5BF-9D7DC6E892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4F5-1868-4B0A-A613-CBDC73A021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783A-44E3-4CD4-A6BE-C6638341F8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CB87-4C52-43DF-8AA7-D09AEA4E30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EB31-B5E6-4DBF-9240-173946CDD4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993C-F883-4215-9259-E6E9F7C865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D8AC-1424-440B-ACD1-F394D7D498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03AC-FED0-4A2A-BA78-CFCA8C4A9D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AF77-C007-4213-95FC-F6FA958ABD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67C-2C35-482F-98D3-A6BB0EC30D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22C8-9C8D-4FAB-B750-993E84FA44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152-170F-46E7-86E1-CF706BC947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E8AB-DA9B-46F7-B1DE-BE75567E29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31CB-B777-4741-A1EE-5FDEA49629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C5C5-ED70-477F-990E-AADBD94ABA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EE7F-1974-4CBF-A9E2-2D6573123D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D157-E33C-48CF-B2F0-BA86FE8A3B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1FF0-8710-45A8-BB01-EE83B1DDCC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23C5-F570-4926-BA65-547264672E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FB26-B8CA-4DD8-AB26-288A0CAB367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2D49-AB8B-4123-8E53-AB946FD75F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597C-1A31-483F-8C38-9BA64656BD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1D95-EC47-4E80-AB61-0097ECAD22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14E3-11BC-4313-A113-6FF13534B1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C35A-4A91-4926-8B91-D8396CC0E5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B93D-447B-41AD-873C-DBD2871142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A09E-6FD2-4F5D-AE98-171389AD7D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hursday 2n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2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3D4C-50C1-43DC-A5A6-154D825733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27DD-E1B4-4B63-8E51-17F5FB3E3D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D378-0DDF-4D9E-933E-168238238F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0-11-24T15:49:56Z</dcterms:modified>
  <cp:revision>68</cp:revision>
  <dc:subject/>
  <dc:title>Aims and Objectives</dc:title>
</cp:coreProperties>
</file>